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A47-0996-4316-9043-5714D535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07E-8331-483E-A301-AAA8DF3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F13-CDB5-40B9-B51C-1F70EAC8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843-1CA1-4987-8E88-2CA301DD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DE0-D917-4431-BD88-8CF0CBF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74A-6F00-4AFC-9B05-2FF73716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E11-B64C-4E42-AC73-3F7AADF1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2AE-E078-4BBB-9F42-7EA33FB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33B-7484-4D36-A4C6-1551F43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36E-4E4C-40B6-B75B-BA3326F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EBB-FD54-4069-9EE0-193C85C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C15-87A8-4DEB-ABA8-35C19C9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3B6-73AD-402C-A2FE-3CDDD3041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ding to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c unit for signal transduction is the neu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eople.eku.edu/ritchisong/301images/Complete_neuron_cell_diagram_en.svg.png"/>
          <p:cNvPicPr/>
          <p:nvPr/>
        </p:nvPicPr>
        <p:blipFill>
          <a:blip r:embed="rId1"/>
          <a:stretch/>
        </p:blipFill>
        <p:spPr>
          <a:xfrm>
            <a:off x="2590920" y="1828800"/>
            <a:ext cx="6389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action.bmp"/>
          <p:cNvPicPr/>
          <p:nvPr/>
        </p:nvPicPr>
        <p:blipFill>
          <a:blip r:embed="rId1"/>
          <a:srcRect l="66046" t="0" r="0" b="15924"/>
          <a:stretch/>
        </p:blipFill>
        <p:spPr>
          <a:xfrm>
            <a:off x="0" y="1447920"/>
            <a:ext cx="3886200" cy="4954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625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muli cause depola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de nerve becomes po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becomes neg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 = Magnetic Resonanc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I’s produce images based on your nervous system’s signaling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7335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olarization causes continuous depolarizations along the n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kvhs.nbed.nb.ca/gallant/biology/action_potential_propagation.jpg"/>
          <p:cNvPicPr/>
          <p:nvPr/>
        </p:nvPicPr>
        <p:blipFill>
          <a:blip r:embed="rId1"/>
          <a:stretch/>
        </p:blipFill>
        <p:spPr>
          <a:xfrm>
            <a:off x="4419720" y="0"/>
            <a:ext cx="4038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s are sent to the Brain for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‘decides’ what to do and sends back a response action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rvous System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NS.bmp"/>
          <p:cNvPicPr/>
          <p:nvPr/>
        </p:nvPicPr>
        <p:blipFill>
          <a:blip r:embed="rId1"/>
          <a:stretch/>
        </p:blipFill>
        <p:spPr>
          <a:xfrm>
            <a:off x="274680" y="1371600"/>
            <a:ext cx="8869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312408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N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ain &amp; Spinal Cord</a:t>
            </a: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rve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NS.bmp"/>
          <p:cNvPicPr/>
          <p:nvPr/>
        </p:nvPicPr>
        <p:blipFill>
          <a:blip r:embed="rId1"/>
          <a:stretch/>
        </p:blipFill>
        <p:spPr>
          <a:xfrm>
            <a:off x="3429000" y="304920"/>
            <a:ext cx="549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NS – Signals to and from skeletal muscle; responds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nomic NS – Regulates inter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athetic: Activate Fight or Fligh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ympathetic: Activate Rest &amp; Digest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ic: Many Digestive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pns.bmp"/>
          <p:cNvPicPr/>
          <p:nvPr/>
        </p:nvPicPr>
        <p:blipFill>
          <a:blip r:embed="rId1"/>
          <a:stretch/>
        </p:blipFill>
        <p:spPr>
          <a:xfrm>
            <a:off x="457200" y="533520"/>
            <a:ext cx="82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o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  of the body from one place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modes evolved based on give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n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www.naturephoto-cz.com/photos/sevcik/indian-flying-fox--pteropus-giganteus-3.jpg"/>
          <p:cNvPicPr/>
          <p:nvPr/>
        </p:nvPicPr>
        <p:blipFill>
          <a:blip r:embed="rId1"/>
          <a:srcRect l="2891" t="17585" r="6444" b="26420"/>
          <a:stretch/>
        </p:blipFill>
        <p:spPr>
          <a:xfrm>
            <a:off x="3733920" y="3429000"/>
            <a:ext cx="5181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s a high tensile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evolved to overcome this in numerous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lined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3809880"/>
          <a:ext cx="8915400" cy="2808360"/>
        </p:xfrm>
        <a:graphic>
          <a:graphicData uri="http://schemas.openxmlformats.org/drawingml/2006/table">
            <a:tbl>
              <a:tblPr/>
              <a:tblGrid>
                <a:gridCol w="374760"/>
                <a:gridCol w="1947600"/>
                <a:gridCol w="1648080"/>
                <a:gridCol w="1647720"/>
                <a:gridCol w="1649520"/>
                <a:gridCol w="1647720"/>
              </a:tblGrid>
              <a:tr h="57312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e or n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al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s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62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ipose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l cover or opercul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dal pedun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44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il or Caud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red Ventral or pelvic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44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red Pectoral or breast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1" descr="Fish Anatomy"/>
          <p:cNvPicPr/>
          <p:nvPr/>
        </p:nvPicPr>
        <p:blipFill>
          <a:blip r:embed="rId1"/>
          <a:stretch/>
        </p:blipFill>
        <p:spPr>
          <a:xfrm>
            <a:off x="152280" y="304920"/>
            <a:ext cx="8783640" cy="3124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449600" y="4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ing Involves the Nervous System &amp; Locomotive Systems (Muscle/Skele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ensory receptors accept a stimul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rves send information to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rain creates a response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sponse signal sent via nerves to sites of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s for coordinated mov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rsal fin: Stability in swimming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tral fin: Stability in swimm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dal fin: The main propelling fi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 fin: Stability in swimm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ctoral fins: Forward and side to side movem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ipose fin: Stability in swim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Onto 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strong frame (bon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ctive movement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able Limb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le Joi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erran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push through soil &amp; roc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wor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e to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nt &amp;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static.howstuffworks.com/gif/willow/earthworm-info1.gif"/>
          <p:cNvPicPr/>
          <p:nvPr/>
        </p:nvPicPr>
        <p:blipFill>
          <a:blip r:embed="rId1"/>
          <a:stretch/>
        </p:blipFill>
        <p:spPr>
          <a:xfrm>
            <a:off x="4038480" y="3200400"/>
            <a:ext cx="47246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trapods ne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ll distribu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&amp; muscu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://www.kingdomofpets.com/dog_health/images/dog-bones.jpg"/>
          <p:cNvPicPr/>
          <p:nvPr/>
        </p:nvPicPr>
        <p:blipFill>
          <a:blip r:embed="rId1"/>
          <a:stretch/>
        </p:blipFill>
        <p:spPr>
          <a:xfrm>
            <a:off x="1752480" y="2666880"/>
            <a:ext cx="5334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pedals need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egs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www.freewebs.com/skeletalsystemproject/310px-Human_skeleton_front.svg.png"/>
          <p:cNvPicPr/>
          <p:nvPr/>
        </p:nvPicPr>
        <p:blipFill>
          <a:blip r:embed="rId1"/>
          <a:stretch/>
        </p:blipFill>
        <p:spPr>
          <a:xfrm>
            <a:off x="5715000" y="533520"/>
            <a:ext cx="31813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m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visual.merriam-webster.com/images/animal-kingdom/marsupial-mammals/kangaroo/skeleton-kangaroo.jpg"/>
          <p:cNvPicPr/>
          <p:nvPr/>
        </p:nvPicPr>
        <p:blipFill>
          <a:blip r:embed="rId1"/>
          <a:srcRect l="23275" t="4171" r="14183" b="0"/>
          <a:stretch/>
        </p:blipFill>
        <p:spPr>
          <a:xfrm>
            <a:off x="304920" y="1752480"/>
            <a:ext cx="455904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www.azaalas.org/images/rabbit%20bones.jpg"/>
          <p:cNvPicPr/>
          <p:nvPr/>
        </p:nvPicPr>
        <p:blipFill>
          <a:blip r:embed="rId2"/>
          <a:stretch/>
        </p:blipFill>
        <p:spPr>
          <a:xfrm>
            <a:off x="4724280" y="1295280"/>
            <a:ext cx="394020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biologycorner.com/resources/skeleton_frog.gif"/>
          <p:cNvPicPr/>
          <p:nvPr/>
        </p:nvPicPr>
        <p:blipFill>
          <a:blip r:embed="rId3"/>
          <a:stretch/>
        </p:blipFill>
        <p:spPr>
          <a:xfrm>
            <a:off x="4800600" y="3809880"/>
            <a:ext cx="35179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ds - Fea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s - Sk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nsects – Carbohydrate/Protein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3 groups independently developed a different means to achieve f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ight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Force of air carrying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Force of energy from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: Force of air opposing th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Force of gravity opposing l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i47.photobucket.com/albums/f182/leftieman/Aircraft%20Physics%20Discussion%20Images/aerodynamic-force2.jpg"/>
          <p:cNvPicPr/>
          <p:nvPr/>
        </p:nvPicPr>
        <p:blipFill>
          <a:blip r:embed="rId1"/>
          <a:srcRect l="0" t="12293" r="0" b="18609"/>
          <a:stretch/>
        </p:blipFill>
        <p:spPr>
          <a:xfrm>
            <a:off x="1676520" y="3886200"/>
            <a:ext cx="5933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Low weight due to hollow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High metabolic rate combined with efficient respiration provides prolong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Feather anatomy ideal for reducing drag &amp; increasing l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urface 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 &amp; Fl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www.evidencesofcreation.com/images_designinnature/Kuslarin.jpg"/>
          <p:cNvPicPr/>
          <p:nvPr/>
        </p:nvPicPr>
        <p:blipFill>
          <a:blip r:embed="rId2"/>
          <a:stretch/>
        </p:blipFill>
        <p:spPr>
          <a:xfrm>
            <a:off x="609480" y="1447920"/>
            <a:ext cx="6858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sense.bmp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Small bodies &amp; long thin arm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Wide, flat skin lay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High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visual.merriam-webster.com/images/animal-kingdom/flying-mammal/bat/skeleton-bat.jpg"/>
          <p:cNvPicPr/>
          <p:nvPr/>
        </p:nvPicPr>
        <p:blipFill>
          <a:blip r:embed="rId1"/>
          <a:srcRect l="21249" t="0" r="7499" b="0"/>
          <a:stretch/>
        </p:blipFill>
        <p:spPr>
          <a:xfrm>
            <a:off x="4114800" y="213372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Very low weight – No b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ust: Very high metabolic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t: Wing anatomy ideal for reducing drag &amp; increasing l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urface a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hin &amp;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128.6.230.7/Insect%20Wings/Odonata/Dragonfly%20Closeup%203-D/slides/CRW_3254_mod_B.jpg"/>
          <p:cNvPicPr/>
          <p:nvPr/>
        </p:nvPicPr>
        <p:blipFill>
          <a:blip r:embed="rId2"/>
          <a:stretch/>
        </p:blipFill>
        <p:spPr>
          <a:xfrm>
            <a:off x="4495680" y="2057400"/>
            <a:ext cx="40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stim.bmp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’ variations are 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ulse strength variations (diet, chemca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ve cells (myelin sheath, chemica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ing differences (dyslexia, deafn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oskeletal differences (broken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ing/Learning (normal reac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A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09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s have more negative charge inside than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ing membrane potential -70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ig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people.eku.edu/ritchisong/membranepotential5.jpg"/>
          <p:cNvPicPr/>
          <p:nvPr/>
        </p:nvPicPr>
        <p:blipFill>
          <a:blip r:embed="rId1"/>
          <a:stretch/>
        </p:blipFill>
        <p:spPr>
          <a:xfrm>
            <a:off x="380880" y="1828800"/>
            <a:ext cx="4981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A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+/K+ Pum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 Na+ OUT for 2 K+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+ in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- in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 Channe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+ Infl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 Channe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light + Efl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 increases negativity ins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343400" y="2057400"/>
            <a:ext cx="4114800" cy="3809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n 6"/>
          <p:cNvSpPr/>
          <p:nvPr/>
        </p:nvSpPr>
        <p:spPr>
          <a:xfrm>
            <a:off x="6019920" y="1828800"/>
            <a:ext cx="609480" cy="762120"/>
          </a:xfrm>
          <a:prstGeom prst="can">
            <a:avLst>
              <a:gd name="adj" fmla="val 2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Can 7"/>
          <p:cNvGrpSpPr/>
          <p:nvPr/>
        </p:nvGrpSpPr>
        <p:grpSpPr>
          <a:xfrm>
            <a:off x="7089840" y="4743360"/>
            <a:ext cx="1182600" cy="1224000"/>
            <a:chOff x="7089840" y="4743360"/>
            <a:chExt cx="1182600" cy="1224000"/>
          </a:xfrm>
        </p:grpSpPr>
        <p:pic>
          <p:nvPicPr>
            <p:cNvPr id="60" name="Can 7" descr=""/>
            <p:cNvPicPr/>
            <p:nvPr/>
          </p:nvPicPr>
          <p:blipFill>
            <a:blip r:embed="rId1"/>
            <a:stretch/>
          </p:blipFill>
          <p:spPr>
            <a:xfrm>
              <a:off x="7089840" y="4743360"/>
              <a:ext cx="1182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9752600">
              <a:off x="7466040" y="5133960"/>
              <a:ext cx="457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Can 8"/>
          <p:cNvSpPr/>
          <p:nvPr/>
        </p:nvSpPr>
        <p:spPr>
          <a:xfrm rot="5400000">
            <a:off x="4281480" y="3262320"/>
            <a:ext cx="457200" cy="650880"/>
          </a:xfrm>
          <a:prstGeom prst="can">
            <a:avLst>
              <a:gd name="adj" fmla="val 1754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80773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638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199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715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01028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70866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7150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6248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67816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73915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77724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830592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56386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6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58672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8"/>
          <p:cNvSpPr/>
          <p:nvPr/>
        </p:nvSpPr>
        <p:spPr>
          <a:xfrm>
            <a:off x="36576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Straight Arrow Connector 30"/>
          <p:cNvCxnSpPr>
            <a:endCxn id="70" idx="2"/>
          </p:cNvCxnSpPr>
          <p:nvPr/>
        </p:nvCxnSpPr>
        <p:spPr>
          <a:xfrm flipH="1" flipV="1">
            <a:off x="5942880" y="1740600"/>
            <a:ext cx="686520" cy="153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31"/>
          <p:cNvCxnSpPr>
            <a:endCxn id="71" idx="2"/>
          </p:cNvCxnSpPr>
          <p:nvPr/>
        </p:nvCxnSpPr>
        <p:spPr>
          <a:xfrm flipH="1" flipV="1">
            <a:off x="6476400" y="1664640"/>
            <a:ext cx="153000" cy="130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33"/>
          <p:cNvCxnSpPr/>
          <p:nvPr/>
        </p:nvCxnSpPr>
        <p:spPr>
          <a:xfrm flipV="1">
            <a:off x="6399720" y="1752120"/>
            <a:ext cx="6865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37"/>
          <p:cNvCxnSpPr>
            <a:endCxn id="67" idx="0"/>
          </p:cNvCxnSpPr>
          <p:nvPr/>
        </p:nvCxnSpPr>
        <p:spPr>
          <a:xfrm flipH="1">
            <a:off x="5866560" y="1142640"/>
            <a:ext cx="3056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43"/>
          <p:cNvCxnSpPr/>
          <p:nvPr/>
        </p:nvCxnSpPr>
        <p:spPr>
          <a:xfrm flipH="1">
            <a:off x="6171480" y="990360"/>
            <a:ext cx="1530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45"/>
          <p:cNvCxnSpPr/>
          <p:nvPr/>
        </p:nvCxnSpPr>
        <p:spPr>
          <a:xfrm flipH="1" flipV="1">
            <a:off x="4114440" y="327636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48"/>
          <p:cNvCxnSpPr>
            <a:endCxn id="80" idx="3"/>
          </p:cNvCxnSpPr>
          <p:nvPr/>
        </p:nvCxnSpPr>
        <p:spPr>
          <a:xfrm flipH="1">
            <a:off x="3962160" y="3581280"/>
            <a:ext cx="129600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imulus Sen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ory Trans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es a change in R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n the RMP = Receptor Pot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ion channels &amp; depolarize membra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The R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 RAPID influx of 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inside suddenly more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o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"/>
          <p:cNvSpPr/>
          <p:nvPr/>
        </p:nvSpPr>
        <p:spPr>
          <a:xfrm>
            <a:off x="4343400" y="2057400"/>
            <a:ext cx="4114800" cy="3809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n 6"/>
          <p:cNvSpPr/>
          <p:nvPr/>
        </p:nvSpPr>
        <p:spPr>
          <a:xfrm>
            <a:off x="6019920" y="1828800"/>
            <a:ext cx="609480" cy="762120"/>
          </a:xfrm>
          <a:prstGeom prst="can">
            <a:avLst>
              <a:gd name="adj" fmla="val 2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Can 7"/>
          <p:cNvGrpSpPr/>
          <p:nvPr/>
        </p:nvGrpSpPr>
        <p:grpSpPr>
          <a:xfrm>
            <a:off x="7089840" y="4743360"/>
            <a:ext cx="1182600" cy="1224000"/>
            <a:chOff x="7089840" y="4743360"/>
            <a:chExt cx="1182600" cy="1224000"/>
          </a:xfrm>
        </p:grpSpPr>
        <p:pic>
          <p:nvPicPr>
            <p:cNvPr id="95" name="Can 7" descr=""/>
            <p:cNvPicPr/>
            <p:nvPr/>
          </p:nvPicPr>
          <p:blipFill>
            <a:blip r:embed="rId1"/>
            <a:stretch/>
          </p:blipFill>
          <p:spPr>
            <a:xfrm>
              <a:off x="7089840" y="4743360"/>
              <a:ext cx="1182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19752600">
              <a:off x="7466040" y="5133960"/>
              <a:ext cx="457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Can 8"/>
          <p:cNvSpPr/>
          <p:nvPr/>
        </p:nvSpPr>
        <p:spPr>
          <a:xfrm rot="5400000">
            <a:off x="4281480" y="3262320"/>
            <a:ext cx="457200" cy="650880"/>
          </a:xfrm>
          <a:prstGeom prst="can">
            <a:avLst>
              <a:gd name="adj" fmla="val 1754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69608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5638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60199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715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769608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70866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57150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6248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7816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67057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39152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6705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6386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58672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6576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30"/>
          <p:cNvCxnSpPr>
            <a:endCxn id="105" idx="2"/>
          </p:cNvCxnSpPr>
          <p:nvPr/>
        </p:nvCxnSpPr>
        <p:spPr>
          <a:xfrm flipH="1" flipV="1">
            <a:off x="5942880" y="1740600"/>
            <a:ext cx="686520" cy="153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31"/>
          <p:cNvCxnSpPr>
            <a:endCxn id="106" idx="2"/>
          </p:cNvCxnSpPr>
          <p:nvPr/>
        </p:nvCxnSpPr>
        <p:spPr>
          <a:xfrm flipH="1" flipV="1">
            <a:off x="6476400" y="1664640"/>
            <a:ext cx="153000" cy="130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 flipV="1">
            <a:off x="6399720" y="1752120"/>
            <a:ext cx="6865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37"/>
          <p:cNvCxnSpPr>
            <a:endCxn id="102" idx="0"/>
          </p:cNvCxnSpPr>
          <p:nvPr/>
        </p:nvCxnSpPr>
        <p:spPr>
          <a:xfrm flipH="1">
            <a:off x="5866560" y="1142640"/>
            <a:ext cx="3056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43"/>
          <p:cNvCxnSpPr/>
          <p:nvPr/>
        </p:nvCxnSpPr>
        <p:spPr>
          <a:xfrm flipH="1">
            <a:off x="6171480" y="990360"/>
            <a:ext cx="1530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45"/>
          <p:cNvCxnSpPr/>
          <p:nvPr/>
        </p:nvCxnSpPr>
        <p:spPr>
          <a:xfrm flipH="1" flipV="1">
            <a:off x="4114440" y="327636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48"/>
          <p:cNvCxnSpPr>
            <a:endCxn id="115" idx="3"/>
          </p:cNvCxnSpPr>
          <p:nvPr/>
        </p:nvCxnSpPr>
        <p:spPr>
          <a:xfrm flipH="1">
            <a:off x="3962160" y="3581280"/>
            <a:ext cx="129600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32"/>
          <p:cNvCxnSpPr/>
          <p:nvPr/>
        </p:nvCxnSpPr>
        <p:spPr>
          <a:xfrm flipH="1" flipV="1">
            <a:off x="7238160" y="4571640"/>
            <a:ext cx="686520" cy="15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59:58Z</dcterms:created>
  <dc:creator>leanne</dc:creator>
  <dc:description/>
  <dc:language>en-US</dc:language>
  <cp:lastModifiedBy>leanne</cp:lastModifiedBy>
  <dcterms:modified xsi:type="dcterms:W3CDTF">2010-02-23T01:03:39Z</dcterms:modified>
  <cp:revision>1</cp:revision>
  <dc:subject/>
  <dc:title>Responding to The Environment</dc:title>
</cp:coreProperties>
</file>